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92D-B2A9-4261-A1A2-6B456877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62A-27E5-4C4B-B3F8-38E21F92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8D5-6C92-4E10-A076-C00D7668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F47-5727-42C2-98B7-8F67186C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18F-7608-4E45-BACE-B1D7783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58B-3862-4CC3-9C54-7F626FB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A8C-0AB8-47AA-A911-417DDA7A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B7A-246C-42F5-8E2D-DB41690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6C9-4C99-4D00-A8D7-FE39769F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957-43F4-4CDE-BD9A-3547D346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661-54D8-499E-85F3-7D37857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92B-8C08-4D45-8217-E9C50F8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BA53-8124-4047-9A35-27450BA76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PPRLOGO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r_eagl1m"/>
          <p:cNvPicPr/>
          <p:nvPr/>
        </p:nvPicPr>
        <p:blipFill>
          <a:blip r:embed="rId4"/>
          <a:stretch/>
        </p:blipFill>
        <p:spPr>
          <a:xfrm>
            <a:off x="0" y="0"/>
            <a:ext cx="153360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79280" y="2133720"/>
            <a:ext cx="896472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Georgia"/>
              </a:rPr>
              <a:t>Местное самоуправлен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6 им. Ф.И.Яров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. Новолеушков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умовецкая Ольга Иван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2205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3. Права граждан Российской Федерации на осуществление 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1. Граждане Российской Федерации  осуществляют местное самоуправление посредством участия в  местных референдумах, муниципальных выборах, посредством иных  форм прямого волеизъявления, а также через выборные и иные  органы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2205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3. Права граждан Российской Федерации на осуществление 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2. Граждане имеют равные права на осуществление местного  самоуправления независимо от пола, расы, национальности,  языка, происхождения, имущественного и должностного положения,  отношения к религии, убеждений, принадлежности к общественным  объедин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9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571760" y="0"/>
            <a:ext cx="7056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Задачи органов местного самоуправл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285840" y="2286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ладение, пользование и распоряжение муниципальной собствен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ормирование и использование местного бюдж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становление местных налогов и сб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держание и использование муниципального жилищного фонда и нежилых помещ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.   Содержание и развитие учреждений муниципального образования и здравоохра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Задачи органов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местного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самоуправл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агоустройство террито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храна общественного поряд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ниципальное дорожное строительство и содержание дорог местного зна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я работы общественного транспор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080" indent="-478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. Обеспечение социальной поддержки и содействие занятости насе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22050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ыборная демокра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равовое государств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Демократическая культу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кономическая независ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Georgia"/>
              </a:rPr>
              <a:t>Основы самоуправл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оставные ч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амоуправления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8840" y="2565360"/>
            <a:ext cx="318924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Юрид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195640" y="4653000"/>
            <a:ext cx="453708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03640" y="2565360"/>
            <a:ext cx="3695760" cy="1068840"/>
          </a:xfrm>
          <a:prstGeom prst="rect">
            <a:avLst/>
          </a:prstGeom>
          <a:solidFill>
            <a:srgbClr val="faf9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Власт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автоном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19280" y="260280"/>
            <a:ext cx="7056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Признаки  самоуправления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1844640"/>
            <a:ext cx="2665440" cy="91692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Централизованно устанавливаемые огранич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Dubna"/>
          <p:cNvPicPr/>
          <p:nvPr/>
        </p:nvPicPr>
        <p:blipFill>
          <a:blip r:embed="rId1"/>
          <a:stretch/>
        </p:blipFill>
        <p:spPr>
          <a:xfrm>
            <a:off x="25092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Garant242"/>
          <p:cNvPicPr/>
          <p:nvPr/>
        </p:nvPicPr>
        <p:blipFill>
          <a:blip r:embed="rId2"/>
          <a:stretch/>
        </p:blipFill>
        <p:spPr>
          <a:xfrm>
            <a:off x="1692360" y="2924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179280" y="4653000"/>
            <a:ext cx="3457800" cy="76464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Наличие собственной компетен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j0289897"/>
          <p:cNvPicPr/>
          <p:nvPr/>
        </p:nvPicPr>
        <p:blipFill>
          <a:blip r:embed="rId3"/>
          <a:stretch/>
        </p:blipFill>
        <p:spPr>
          <a:xfrm>
            <a:off x="1042920" y="5589720"/>
            <a:ext cx="1728720" cy="1155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5651640" y="4581360"/>
            <a:ext cx="2989080" cy="70380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Ответственность перед сообщест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3" descr="j0280925"/>
          <p:cNvPicPr/>
          <p:nvPr/>
        </p:nvPicPr>
        <p:blipFill>
          <a:blip r:embed="rId4"/>
          <a:stretch/>
        </p:blipFill>
        <p:spPr>
          <a:xfrm>
            <a:off x="6804000" y="537372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j0215569"/>
          <p:cNvPicPr/>
          <p:nvPr/>
        </p:nvPicPr>
        <p:blipFill>
          <a:blip r:embed="rId5"/>
          <a:stretch/>
        </p:blipFill>
        <p:spPr>
          <a:xfrm>
            <a:off x="6156360" y="2813040"/>
            <a:ext cx="2185920" cy="1116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5580000" y="1916280"/>
            <a:ext cx="3095640" cy="703800"/>
          </a:xfrm>
          <a:prstGeom prst="rect">
            <a:avLst/>
          </a:prstGeom>
          <a:solidFill>
            <a:srgbClr val="faf9c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Хозяйственная самостоятель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58920" y="0"/>
            <a:ext cx="7777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Соотнош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местного и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68360" y="2349360"/>
            <a:ext cx="4681440" cy="36720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68360" y="4869000"/>
            <a:ext cx="1728720" cy="1152360"/>
          </a:xfrm>
          <a:prstGeom prst="cube">
            <a:avLst>
              <a:gd name="adj" fmla="val 25000"/>
            </a:avLst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55640" y="3429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e135"/>
                </a:solidFill>
                <a:latin typeface="Georgia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11280" y="530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.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292720" y="2276640"/>
            <a:ext cx="385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Школьное самоуправлени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самоуправление образовательного учреждения) – это составления органичная часть местного самоуправления, подчиняющаяся тем же  принципам и функционирующая на основе общего законодательства и собственной нормативной баз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63640" y="115920"/>
            <a:ext cx="7201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Georgia"/>
              </a:rPr>
              <a:t>Значение школьного самоуправления для развития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280" y="5589720"/>
            <a:ext cx="8353440" cy="1079280"/>
          </a:xfrm>
          <a:prstGeom prst="cube">
            <a:avLst>
              <a:gd name="adj" fmla="val 25000"/>
            </a:avLst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42920" y="602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ое самоу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220500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амоуправление образовательного учреждения – это фундамент для развития и эффективного функционирования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835280" y="3645000"/>
            <a:ext cx="5761080" cy="22320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843280" y="4724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e135"/>
                </a:solidFill>
                <a:latin typeface="Georgia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63640" y="115920"/>
            <a:ext cx="7201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Georgia"/>
              </a:rPr>
              <a:t>Государственно-общественный характер самоуправления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9"/>
          <p:cNvGrpSpPr/>
          <p:nvPr/>
        </p:nvGrpSpPr>
        <p:grpSpPr>
          <a:xfrm>
            <a:off x="3635280" y="2060640"/>
            <a:ext cx="1752480" cy="1371600"/>
            <a:chOff x="3635280" y="2060640"/>
            <a:chExt cx="1752480" cy="1371600"/>
          </a:xfrm>
        </p:grpSpPr>
        <p:sp>
          <p:nvSpPr>
            <p:cNvPr id="117" name="Rectangle 10"/>
            <p:cNvSpPr/>
            <p:nvPr/>
          </p:nvSpPr>
          <p:spPr>
            <a:xfrm>
              <a:off x="3759840" y="2517840"/>
              <a:ext cx="1502280" cy="9144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4e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9900"/>
                  </a:solidFill>
                  <a:latin typeface="Comic Sans MS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3635280" y="2060640"/>
              <a:ext cx="175248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4e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12"/>
          <p:cNvSpPr/>
          <p:nvPr/>
        </p:nvSpPr>
        <p:spPr>
          <a:xfrm>
            <a:off x="395280" y="3141720"/>
            <a:ext cx="2160720" cy="1006560"/>
          </a:xfrm>
          <a:prstGeom prst="rect">
            <a:avLst/>
          </a:prstGeom>
          <a:solidFill>
            <a:srgbClr val="e1e1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че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48000" y="3933720"/>
            <a:ext cx="2448000" cy="1006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даг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6516720" y="3213000"/>
            <a:ext cx="2303280" cy="93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тель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ществ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979640" y="5013360"/>
            <a:ext cx="54720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ссийское 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0920" y="5877000"/>
            <a:ext cx="8713800" cy="790560"/>
          </a:xfrm>
          <a:prstGeom prst="rect">
            <a:avLst/>
          </a:prstGeom>
          <a:solidFill>
            <a:srgbClr val="0080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eorgia"/>
              </a:rPr>
              <a:t>Российское общ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 flipV="1">
            <a:off x="2771640" y="2997000"/>
            <a:ext cx="863640" cy="718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4"/>
          <p:cNvSpPr/>
          <p:nvPr/>
        </p:nvSpPr>
        <p:spPr>
          <a:xfrm flipH="1" flipV="1">
            <a:off x="5435280" y="2924280"/>
            <a:ext cx="865080" cy="7207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5"/>
          <p:cNvSpPr/>
          <p:nvPr/>
        </p:nvSpPr>
        <p:spPr>
          <a:xfrm flipV="1">
            <a:off x="1476360" y="3499920"/>
            <a:ext cx="2017800" cy="19465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6"/>
          <p:cNvSpPr/>
          <p:nvPr/>
        </p:nvSpPr>
        <p:spPr>
          <a:xfrm flipH="1" flipV="1">
            <a:off x="4572000" y="3499920"/>
            <a:ext cx="144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7"/>
          <p:cNvSpPr/>
          <p:nvPr/>
        </p:nvSpPr>
        <p:spPr>
          <a:xfrm flipH="1" flipV="1">
            <a:off x="5435280" y="3429000"/>
            <a:ext cx="1152360" cy="1295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19890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Это право самостоятельного осуществления государственной власти или управления, предоставленное конституцией какой-нибудь части государ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2. Внутреннее, своими собственными силами управление делами в какой-нибудь организации, коллект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47640" y="692280"/>
            <a:ext cx="7056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Georgia"/>
              </a:rPr>
              <a:t>Самоуправление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133720"/>
            <a:ext cx="896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ru-RU" sz="3200" spc="-1" strike="noStrike">
                <a:solidFill>
                  <a:srgbClr val="e1e135"/>
                </a:solidFill>
                <a:latin typeface="Georgia"/>
              </a:rPr>
              <a:t>Носителем суверенитета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и единственным источником власти в Российской Федерации является ее многонациональный нар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2. Народ осуществляет свою власть непосредственно, а также через органы государственной власти и </a:t>
            </a:r>
            <a:r>
              <a:rPr b="0" lang="ru-RU" sz="3200" spc="-1" strike="noStrike">
                <a:solidFill>
                  <a:srgbClr val="e1e135"/>
                </a:solidFill>
                <a:latin typeface="Georgia"/>
              </a:rPr>
              <a:t>органы местного самоуправления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статья 3. Конституции Российской Федера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47640" y="0"/>
            <a:ext cx="759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амоуправление – это принцип управления малыми сообществами и объединениями людей в гражданском обще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916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татья 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1. Местное самоуправление в Российской Федерации обеспечивает самостоятельное решение населением вопросов местного значения, владение, пользование и распоряжение муниципальной собствен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2. Местное самоуправление осуществляется гражданами путем референдума, выборов, других форм прямого волеизъявления, через выборные и другие органы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1916280"/>
            <a:ext cx="89647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татья 1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1. Местное самоуправление осуществляется в городских, сельских поселениях и на других территориях с учетом исторических и иных местных традиций. Структура органов местного самоуправления определяется населением самостоятельн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2. Изменение границ территорий, в которых осуществляется местное самоуправление, допускается с учетом мнения населения соответствующих территор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1628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атья 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Органы местного самоуправления самостоятельно управляют муниципальной собственностью, формируют, утверждают и исполняют местный бюджет, устанавливают местные налоги и сборы, осуществляют охрану общественного порядка, а также решают иные вопросы местного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Органы местного самоуправления могут наделяться законом отдельными государственными полномочиями с передачей необходимых для их осуществления материальных и финансовых средств. Реализация переданных полномочий подконтрольна государ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213372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атья 1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Местное самоуправление в Российской Федерации гарантируется правом на судебную защиту, на компенсацию дополнительных расходов возникших в результате решений, принятых органами государственной власти, запретом на ограничение прав местного самоуправления, установленных Конституцией Российской Федерации и федеральными закон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08000" y="333360"/>
            <a:ext cx="6659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титу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20462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Статья 1. Местное самоуправ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1. Местное самоуправление составляет одну из основ  конституционного строя Российской Федерации, признается,  гарантируется и осуществляется на всей территории Российской  Федер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2. Местное самоуправление в Российской Федерации - форма  осуществления народом своей власти, обеспечивающая в пределах,  установленных Конституцией Российской Федерации, федеральными  законами, … самостоятельное и под  свою ответственность решение населением непосредственно и  (или) через органы местного самоуправления вопросов местного  значения исходя из интересов населения с учетом исторических и  иных местных традиц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236000" y="0"/>
            <a:ext cx="1908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20462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атья 2. Основные термины и по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ы местного самоуправления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- избираемые непосредственно  населением и (или) образуемые представительным органом  муниципального образования органы, наделенные собственными  полномочиями по решению вопросов местного зна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619280" y="189000"/>
            <a:ext cx="70563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Ф "Об общих принципах организации местного самоуправления  в Российской Федерац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т 6 октября 2003 г. № 131-Ф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4:56:43Z</dcterms:created>
  <dc:creator>Cardan</dc:creator>
  <dc:description/>
  <dc:language>en-US</dc:language>
  <cp:lastModifiedBy>1</cp:lastModifiedBy>
  <dcterms:modified xsi:type="dcterms:W3CDTF">2016-08-30T22:18:07Z</dcterms:modified>
  <cp:revision>53</cp:revision>
  <dc:subject/>
  <dc:title>Презентация Социального Проекта</dc:title>
</cp:coreProperties>
</file>